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A75-A88F-4A64-A60F-17D75D51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662-972B-485C-8695-189A6449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359-67A7-447C-AF28-D4FBDFE4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8EE-A761-4325-A6FB-DEBC5638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6A3-47E7-4412-9C3E-BF421B17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BED-0C1C-4E9D-BE4D-216D991E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DCE-DBD3-4CA4-B55A-F919B94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C3B-FD3F-4EE5-91B1-3B7F7328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4B4-A192-411C-9448-FEEDF7DB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68B-AF9D-4868-A314-A2643BCE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DA7-5DA9-4456-BDEA-A8DD3D9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F9C-0ADE-4B1A-99DE-A5EF50F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23A98-0761-4FBF-A9BC-4EC34444438C}" type="slidenum"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7280" y="2592360"/>
            <a:ext cx="5759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os complace presentarles a “The Palms Resort Of Mazatlán", ubicado en las hermosas playas de la costa del Pacífico Mexic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7280" y="2592360"/>
            <a:ext cx="5759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amos seguros que el valor, la calidad y el producto de nuestro hotel son de los más altos estánda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ubicación lo es todo en tus vacaciones. Nuestros huéspedes aman nuestra ubicación en la playa, jardines, alberca con efecto infinito, bar de alberca y cómodas habitaciones que invitan a relajars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Unas vacaciones perfectas en Mazatlán empiezan con unas bellas puestas del sol, brisa tropical del Pacifico, playas cálidas y cristalin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Descanse en su oasis personal de confort después de un día de sol y diversi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nsiente tu paladar con nuestra deliciosa variedad gastronómica y exquisita coctelería en nuestros restaurantes y ba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58960" y="2533680"/>
            <a:ext cx="4762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alibri"/>
              </a:rPr>
              <a:t>Contáctano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3527280"/>
            <a:ext cx="91440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EL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01-800-716-97-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www.palmsmazatlan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reservaciones@his.com.m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ebook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witter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Youtube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8:03:57Z</dcterms:created>
  <dc:creator>ariel </dc:creator>
  <dc:description/>
  <dc:language>en-US</dc:language>
  <cp:lastModifiedBy>ariel </cp:lastModifiedBy>
  <dcterms:modified xsi:type="dcterms:W3CDTF">2013-02-21T19:01:15Z</dcterms:modified>
  <cp:revision>6</cp:revision>
  <dc:subject/>
  <dc:title/>
</cp:coreProperties>
</file>